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34D-D4C2-46E9-AB15-50CE583B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48B-4C17-4905-9273-1972E67F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477-ECDB-4583-926B-FAB6DA01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FC5-7F50-4BA1-8640-0535B25B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0A2-81C7-4821-A4D7-06046369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2EF-05C1-488A-AF22-8BA34A2A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092-EFEE-4BFA-B4B8-55C2DAEA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DFF-ABF5-41D0-986A-3C8B4265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D90-E7A3-4315-94A8-AC12EE2E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C31-C9EF-4B16-A160-B5393743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3D5-1670-48F6-B7A6-8E942887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4A8-D783-4629-B2B0-B48B150A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6B805-A705-4028-A109-D80B8D07E5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AC28F-FD1F-474A-A120-96D170797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GC and ESIP Discovery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Can’t we all just get along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Christopher Lyn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k Iden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79020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1 (to be depreca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2 (withdraw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3 (under deba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me-type approach (new! and improved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544040" y="3143160"/>
            <a:ext cx="561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roa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Return to IAN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exte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44360" y="3589200"/>
            <a:ext cx="883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ata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my/file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rel=”enclosure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type="application/x-netcdf" /&gt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PeND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opendap/file.hdf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rel=“enclosure”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type="application/opendap+x-netcdf" 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k Iden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79020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1 (to be depreca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2 (withdraw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CP-3 (under deba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me-type approach (new! and improved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44360" y="3189240"/>
            <a:ext cx="8839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Return to IANA rel + Add ESIP-specific attributes + exte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44360" y="3589200"/>
            <a:ext cx="883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ata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my/file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rel=”enclosure”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esip:subrel=“http://esipfed.org/ns/discovery/1.1/data#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type="application/x-netcdf"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PeND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opendap/file.hdf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rel=“enclosure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esip:subrel=“http://esipfed.org/ns/discovery/1.1/data#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esip:serviceProtocol=“http://xml.opendap.org/ns/DAP/3.3#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type="application/opendap+x-netcdf" 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cisions, Deci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330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ime in Atom response to use Dublin C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SIP-Specific attributes to &lt;link&gt;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 mime-type to indicate serv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more directly with OG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.B.: their constituency is a superset of our constituency, BUT their tools are a subset of ou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more directly with OS Geo or GENESI-D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lay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IP Discovery Clus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l working group of server and client develop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pen Geospatial Consortium (OG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, addresses many comm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 documents available only to OGC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pen Source Geospatial Foundation (OSGe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ding OpenSearch spec. development in OG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NESI-D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 Orgs with Earth Observation reposit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and promoting OpenSearch for Earth Observations along OSGeo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08252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CP-1: Codifies basic response. Status=approv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CP-2: Proposed extension of rel field to codify OPeNDAP links. Status = withdraw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CP-3: Rework of DCP-1 and DCP-2. Reverts to IANA standards for rel, but adds new attributes to codify specific links. Status=under deb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G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enSearch Geospatial Extensions Draft Implementation Stand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sion 0.0.1 available, but superse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sion 0.0.2 moving toward approval, but not avail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Similarities between OGC and ESIP Discovery Approa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s in Open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hasis on Atom response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rporation of geospatial query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rporation of geospatial response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rporation of temporal query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ursive search suppo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not called out as such in OGC sp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Differences in Atom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62080" y="1600200"/>
          <a:ext cx="8686800" cy="3489480"/>
        </p:xfrm>
        <a:graphic>
          <a:graphicData uri="http://schemas.openxmlformats.org/drawingml/2006/table">
            <a:tbl>
              <a:tblPr/>
              <a:tblGrid>
                <a:gridCol w="1555560"/>
                <a:gridCol w="3417840"/>
                <a:gridCol w="371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SIP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GC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rpose temporal extension to OpenSearch: &lt;time:start&gt;2011-01-0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/time:start&gt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time:end&gt;2011-01-02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/time:end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blin cor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dc:date&gt;2011-01-01/2011-01-02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/dc:date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mmen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 iden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IP namespace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ANA-based, except OGC namespace for OGC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k Iden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9020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CP-1 (to be depreca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CP-2 (withdraw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CP-3 (under deba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me-type approach (new! and improved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k Iden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79020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CP-1 (to be depreca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2 (withdraw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3 (under deba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mime-type approach (new! and improved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382760" y="3278160"/>
            <a:ext cx="5938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roa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ESIP-specific value f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ribu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57200" y="3895560"/>
            <a:ext cx="852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ata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my/file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rel="http://esipfed.org/ns/discovery/1.1/data#”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type="application/x-netcdf"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PeND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opendap/file.hdf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rel="http://esipfed.org/ns/discovery/1.1/data#”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type="application/x-netcdf"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k Iden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79020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1 (to be depreca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CP-2 (withdraw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3 (under deba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mime-type approach (new! and improved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641520" y="3278160"/>
            <a:ext cx="7421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roa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Define new ESIP-specific value f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ribu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457200" y="3895560"/>
            <a:ext cx="852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ata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my/file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rel="http://esipfed.org/ns/discovery/1.1/data#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”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type="application/x-netcdf"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PeND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opendap/file.hdf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rel=“http://xml.opendap.org/ns/DAP/3.3#”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type="application/x-netcdf"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k Iden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79020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1 (to be depreca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2 (withdraw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CP-3 (under deba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mime-type approach (new! and improved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78160" y="3143160"/>
            <a:ext cx="754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roa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Return to IANA rel + Add ESIP-specific attrib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44360" y="3589200"/>
            <a:ext cx="883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ata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my/file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rel=”enclosure”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esip:subrel=“http://esipfed.org/ns/discovery/1.1/data#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type="application/x-netcdf"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PeND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opendap/file.hdf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rel=“enclosure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esip:subrel=“http://esipfed.org/ns/discovery/1.1/data#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esip:serviceProtocol=“http://xml.opendap.org/ns/DAP/3.3#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type="application/x-netcdf"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5:49:23Z</dcterms:created>
  <dc:creator>Christopher Lynnes</dc:creator>
  <dc:description/>
  <dc:language>en-US</dc:language>
  <cp:lastModifiedBy>Christopher Lynnes</cp:lastModifiedBy>
  <dcterms:modified xsi:type="dcterms:W3CDTF">2012-01-05T02:32:11Z</dcterms:modified>
  <cp:revision>6</cp:revision>
  <dc:subject/>
  <dc:title>OGC and ESIP Discovery or</dc:title>
</cp:coreProperties>
</file>